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62D1-D61C-4631-8958-8D4F8030D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CCC0-CE70-44A1-8DAD-67C16CD80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DBB8-B1E6-4839-8046-D9AC30A10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6A29-F28F-4C58-9EE2-4A6B01FD5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EF76-FF49-467A-A8C4-2DF01B597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FA1C-EC27-47B3-AB04-BD18A24AE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64BF-1BD1-41CE-A278-F72877644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0566-0328-4FA9-8592-3A55B2AF0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0144-0723-43AF-8A52-FD6D5D73C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F274-C50E-4E27-86A5-16766F447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324F-0FDA-4D59-9B96-D1014AD43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51A3-AF6E-4E11-BEE8-7AA809EFD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476C-C17B-4EBA-9EFA-20681DCAE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1667-BE5D-4104-B8C7-4D04B2784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B21F-FA91-4AB3-9E35-4C69C8694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7B1F-57D3-4E13-8DDF-56E79E53F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2114-8B8D-47DE-80D2-DFB1B8D89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7B52-C8D0-4B99-A05B-8425EF0B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C804-396C-4D3C-A9B7-064B15119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00CB-80F8-49B6-8D8B-595CBF259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3903-2FCE-4EEE-9E6B-9622F2D2B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5FC-D3BF-451E-8021-70B7E736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F82-D632-4467-8CDC-DD2A1D68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B3A-3DBF-47D4-999D-D1519EFE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3EE-E844-492E-BB7E-31CC86FA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D78-A9D1-41CF-8752-9CFCC508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919-738B-42AE-88FA-A4436544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8A1-B08D-49EE-ACD4-0A10B37B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188-0CF5-4B76-AF9E-6BF985F7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175-2156-4B0E-85BF-1C6CBF1A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855-2FC8-42FC-BEA0-753425FD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A4B-3D70-4986-A4AC-8DB53709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504-3181-4ADE-8B87-1A277AD0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4D30-1782-4997-AF69-BE13255995C1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000"/>
            </a:b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Create a [bibliography, source list…] </a:t>
            </a:r>
            <a:endParaRPr b="0" lang="en-US" sz="40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6 Check_errors_buttons.png"/>
          <p:cNvPicPr/>
          <p:nvPr/>
        </p:nvPicPr>
        <p:blipFill>
          <a:blip r:embed="rId1"/>
          <a:stretch/>
        </p:blipFill>
        <p:spPr>
          <a:xfrm>
            <a:off x="11448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Oval 6"/>
          <p:cNvSpPr/>
          <p:nvPr/>
        </p:nvSpPr>
        <p:spPr>
          <a:xfrm>
            <a:off x="3733920" y="5410080"/>
            <a:ext cx="11430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57800" y="388620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When you’re done, check for errors…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9" name="Freeform 10"/>
          <p:cNvSpPr/>
          <p:nvPr/>
        </p:nvSpPr>
        <p:spPr>
          <a:xfrm>
            <a:off x="3048120" y="4572000"/>
            <a:ext cx="2146320" cy="1066680"/>
          </a:xfrm>
          <a:custGeom>
            <a:avLst/>
            <a:gdLst>
              <a:gd name="textAreaLeft" fmla="*/ 0 w 2146320"/>
              <a:gd name="textAreaRight" fmla="*/ 2146680 w 21463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544" h="1488">
                <a:moveTo>
                  <a:pt x="1544" y="0"/>
                </a:moveTo>
                <a:cubicBezTo>
                  <a:pt x="924" y="164"/>
                  <a:pt x="304" y="328"/>
                  <a:pt x="152" y="576"/>
                </a:cubicBezTo>
                <a:cubicBezTo>
                  <a:pt x="0" y="824"/>
                  <a:pt x="552" y="1336"/>
                  <a:pt x="632" y="14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5181480" y="3505320"/>
            <a:ext cx="3657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6 Check_errors.png"/>
          <p:cNvPicPr/>
          <p:nvPr/>
        </p:nvPicPr>
        <p:blipFill>
          <a:blip r:embed="rId1"/>
          <a:stretch/>
        </p:blipFill>
        <p:spPr>
          <a:xfrm>
            <a:off x="150840" y="0"/>
            <a:ext cx="88423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560" y="3123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d make change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 Source List.png"/>
          <p:cNvPicPr/>
          <p:nvPr/>
        </p:nvPicPr>
        <p:blipFill>
          <a:blip r:embed="rId1"/>
          <a:stretch/>
        </p:blipFill>
        <p:spPr>
          <a:xfrm>
            <a:off x="144360" y="0"/>
            <a:ext cx="8855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Compile your working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91_Teacher_comment.png"/>
          <p:cNvPicPr/>
          <p:nvPr/>
        </p:nvPicPr>
        <p:blipFill>
          <a:blip r:embed="rId1"/>
          <a:stretch/>
        </p:blipFill>
        <p:spPr>
          <a:xfrm>
            <a:off x="131760" y="0"/>
            <a:ext cx="88804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5562720" y="3429000"/>
            <a:ext cx="29718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Share your list with [Teacher’s name]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Get comment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rove your work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Double Bracket 14"/>
          <p:cNvSpPr/>
          <p:nvPr/>
        </p:nvSpPr>
        <p:spPr>
          <a:xfrm>
            <a:off x="228600" y="1752480"/>
            <a:ext cx="6400800" cy="15242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Double Bracket 15"/>
          <p:cNvSpPr/>
          <p:nvPr/>
        </p:nvSpPr>
        <p:spPr>
          <a:xfrm>
            <a:off x="304920" y="5486400"/>
            <a:ext cx="3504960" cy="9144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1 Source List.png"/>
          <p:cNvPicPr/>
          <p:nvPr/>
        </p:nvPicPr>
        <p:blipFill>
          <a:blip r:embed="rId1"/>
          <a:stretch/>
        </p:blipFill>
        <p:spPr>
          <a:xfrm>
            <a:off x="144360" y="0"/>
            <a:ext cx="88552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759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Get expert help for tricky sources</a:t>
            </a:r>
            <a:endParaRPr b="0" lang="en-US" sz="28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91" name="Picture 13" descr="6 Ask_expert.png"/>
          <p:cNvPicPr/>
          <p:nvPr/>
        </p:nvPicPr>
        <p:blipFill>
          <a:blip r:embed="rId2"/>
          <a:stretch/>
        </p:blipFill>
        <p:spPr>
          <a:xfrm>
            <a:off x="2514600" y="1219320"/>
            <a:ext cx="4964040" cy="3841560"/>
          </a:xfrm>
          <a:prstGeom prst="rect">
            <a:avLst/>
          </a:prstGeom>
          <a:ln w="0">
            <a:noFill/>
          </a:ln>
        </p:spPr>
      </p:pic>
      <p:sp>
        <p:nvSpPr>
          <p:cNvPr id="92" name="Oval 8"/>
          <p:cNvSpPr/>
          <p:nvPr/>
        </p:nvSpPr>
        <p:spPr>
          <a:xfrm>
            <a:off x="7620120" y="2514600"/>
            <a:ext cx="11430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93" name="Straight Arrow Connector 8"/>
          <p:cNvCxnSpPr>
            <a:stCxn id="92" idx="2"/>
          </p:cNvCxnSpPr>
          <p:nvPr/>
        </p:nvCxnSpPr>
        <p:spPr>
          <a:xfrm flipH="1" flipV="1">
            <a:off x="3809520" y="2209320"/>
            <a:ext cx="3810960" cy="496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Other kids have asked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All this information is new to me …what is common knowledge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  <a:ea typeface="Arial"/>
              </a:rPr>
              <a:t>If I wrote it for another class, do I quote myself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  <a:ea typeface="Arial"/>
              </a:rPr>
              <a:t>What if I don’t have the page number because I returned the book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How do I do an in-text citation for my source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3"/>
          <p:cNvGrpSpPr/>
          <p:nvPr/>
        </p:nvGrpSpPr>
        <p:grpSpPr>
          <a:xfrm>
            <a:off x="0" y="0"/>
            <a:ext cx="9172440" cy="6475320"/>
            <a:chOff x="0" y="0"/>
            <a:chExt cx="9172440" cy="6475320"/>
          </a:xfrm>
        </p:grpSpPr>
        <p:pic>
          <p:nvPicPr>
            <p:cNvPr id="97" name="Picture 8" descr="analysis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72440" cy="61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Oval 5"/>
            <p:cNvSpPr/>
            <p:nvPr/>
          </p:nvSpPr>
          <p:spPr>
            <a:xfrm>
              <a:off x="5486400" y="272520"/>
              <a:ext cx="3657600" cy="40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>
              <a:off x="5867280" y="4021560"/>
              <a:ext cx="3276720" cy="40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>
              <a:off x="5257800" y="1839960"/>
              <a:ext cx="3886200" cy="477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101" name="Picture 11" descr="analysis2f"/>
            <p:cNvPicPr/>
            <p:nvPr/>
          </p:nvPicPr>
          <p:blipFill>
            <a:blip r:embed="rId2"/>
            <a:stretch/>
          </p:blipFill>
          <p:spPr>
            <a:xfrm>
              <a:off x="12600" y="5981040"/>
              <a:ext cx="9118800" cy="4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Oval 12"/>
            <p:cNvSpPr/>
            <p:nvPr/>
          </p:nvSpPr>
          <p:spPr>
            <a:xfrm>
              <a:off x="4191120" y="5725080"/>
              <a:ext cx="4952880" cy="681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95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alyze your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72200" y="533160"/>
            <a:ext cx="27432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Format your list and export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05" name="Picture 4" descr="6 Print_doc.png"/>
          <p:cNvPicPr/>
          <p:nvPr/>
        </p:nvPicPr>
        <p:blipFill>
          <a:blip r:embed="rId1"/>
          <a:stretch/>
        </p:blipFill>
        <p:spPr>
          <a:xfrm>
            <a:off x="0" y="0"/>
            <a:ext cx="60706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6 Print_options.png"/>
          <p:cNvPicPr/>
          <p:nvPr/>
        </p:nvPicPr>
        <p:blipFill>
          <a:blip r:embed="rId2"/>
          <a:stretch/>
        </p:blipFill>
        <p:spPr>
          <a:xfrm>
            <a:off x="2397240" y="3581280"/>
            <a:ext cx="6594480" cy="27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portfolio3"/>
          <p:cNvPicPr/>
          <p:nvPr/>
        </p:nvPicPr>
        <p:blipFill>
          <a:blip r:embed="rId1"/>
          <a:stretch/>
        </p:blipFill>
        <p:spPr>
          <a:xfrm>
            <a:off x="-9360" y="762120"/>
            <a:ext cx="9153360" cy="6095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Keep all your lists!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More instructions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Specifically for this [essay, project…]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Use [MLA, APA or Chicago/Turabian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ite as you go (books, wikis, databases…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dd notes as you rea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hare your working list and notes with [name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feedback as you go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notes with tags and cluster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organize and store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Start your source list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486400" y="5943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r more teaching ideas: 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upport [at] noodletools [dot] 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6 Choosing_style.png"/>
          <p:cNvPicPr/>
          <p:nvPr/>
        </p:nvPicPr>
        <p:blipFill>
          <a:blip r:embed="rId1"/>
          <a:stretch/>
        </p:blipFill>
        <p:spPr>
          <a:xfrm>
            <a:off x="136440" y="0"/>
            <a:ext cx="8871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2520" y="2361960"/>
            <a:ext cx="4952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rt by choosing a style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4" name="Left Bracket 4"/>
          <p:cNvSpPr/>
          <p:nvPr/>
        </p:nvSpPr>
        <p:spPr>
          <a:xfrm>
            <a:off x="838080" y="2514600"/>
            <a:ext cx="304920" cy="2362320"/>
          </a:xfrm>
          <a:custGeom>
            <a:avLst/>
            <a:gdLst>
              <a:gd name="textAreaLeft" fmla="*/ 89640 w 304920"/>
              <a:gd name="textAreaRight" fmla="*/ 305280 w 304920"/>
              <a:gd name="textAreaTop" fmla="*/ 12600 h 2362320"/>
              <a:gd name="textAreaBottom" fmla="*/ 234972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6"/>
                  <a:pt x="0" y="232"/>
                </a:cubicBezTo>
                <a:lnTo>
                  <a:pt x="0" y="21368"/>
                </a:lnTo>
                <a:cubicBezTo>
                  <a:pt x="0" y="21484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6 Choosing_style.png"/>
          <p:cNvPicPr/>
          <p:nvPr/>
        </p:nvPicPr>
        <p:blipFill>
          <a:blip r:embed="rId1"/>
          <a:stretch/>
        </p:blipFill>
        <p:spPr>
          <a:xfrm>
            <a:off x="136440" y="0"/>
            <a:ext cx="88711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7315200" y="1828800"/>
            <a:ext cx="83808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52280" y="1981080"/>
            <a:ext cx="342900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6 Choosing_style_name.png"/>
          <p:cNvPicPr/>
          <p:nvPr/>
        </p:nvPicPr>
        <p:blipFill>
          <a:blip r:embed="rId1"/>
          <a:stretch/>
        </p:blipFill>
        <p:spPr>
          <a:xfrm>
            <a:off x="144360" y="0"/>
            <a:ext cx="88552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Oval 5"/>
          <p:cNvSpPr/>
          <p:nvPr/>
        </p:nvSpPr>
        <p:spPr>
          <a:xfrm>
            <a:off x="685800" y="4724280"/>
            <a:ext cx="236232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4648320" y="5105520"/>
            <a:ext cx="327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Name your lis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6 Choosing_source.png"/>
          <p:cNvPicPr/>
          <p:nvPr/>
        </p:nvPicPr>
        <p:blipFill>
          <a:blip r:embed="rId1"/>
          <a:stretch/>
        </p:blipFill>
        <p:spPr>
          <a:xfrm>
            <a:off x="141120" y="0"/>
            <a:ext cx="886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761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at’s your source?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581280" y="281952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hoose the best match</a:t>
            </a:r>
            <a:br>
              <a:rPr sz="24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from the drop-down menu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9" descr="6 Fill_in_form.png"/>
          <p:cNvPicPr/>
          <p:nvPr/>
        </p:nvPicPr>
        <p:blipFill>
          <a:blip r:embed="rId1"/>
          <a:stretch/>
        </p:blipFill>
        <p:spPr>
          <a:xfrm>
            <a:off x="138240" y="0"/>
            <a:ext cx="8867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5480" y="4114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ut-and-paste to avoid spelling errors</a:t>
            </a:r>
            <a:endParaRPr b="0" lang="en-US" sz="2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971800" y="3581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Fill in the form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67" name="Elbow Connector 14"/>
          <p:cNvCxnSpPr/>
          <p:nvPr/>
        </p:nvCxnSpPr>
        <p:spPr>
          <a:xfrm flipV="1" rot="10800000">
            <a:off x="1751760" y="4952520"/>
            <a:ext cx="3125160" cy="144864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6 Help_field.png"/>
          <p:cNvPicPr/>
          <p:nvPr/>
        </p:nvPicPr>
        <p:blipFill>
          <a:blip r:embed="rId1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56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Get help on each field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cxnSp>
        <p:nvCxnSpPr>
          <p:cNvPr id="70" name="Straight Arrow Connector 15"/>
          <p:cNvCxnSpPr/>
          <p:nvPr/>
        </p:nvCxnSpPr>
        <p:spPr>
          <a:xfrm flipH="1">
            <a:off x="4570200" y="2057040"/>
            <a:ext cx="2160" cy="764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6 Help_field.png"/>
          <p:cNvPicPr/>
          <p:nvPr/>
        </p:nvPicPr>
        <p:blipFill>
          <a:blip r:embed="rId1"/>
          <a:stretch/>
        </p:blipFill>
        <p:spPr>
          <a:xfrm>
            <a:off x="138240" y="0"/>
            <a:ext cx="886752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6 Popup_help.png"/>
          <p:cNvPicPr/>
          <p:nvPr/>
        </p:nvPicPr>
        <p:blipFill>
          <a:blip r:embed="rId2"/>
          <a:stretch/>
        </p:blipFill>
        <p:spPr>
          <a:xfrm>
            <a:off x="152280" y="1600200"/>
            <a:ext cx="4572000" cy="4716360"/>
          </a:xfrm>
          <a:prstGeom prst="rect">
            <a:avLst/>
          </a:prstGeom>
          <a:ln w="0">
            <a:noFill/>
          </a:ln>
        </p:spPr>
      </p:pic>
      <p:sp>
        <p:nvSpPr>
          <p:cNvPr id="73" name="Oval 5"/>
          <p:cNvSpPr/>
          <p:nvPr/>
        </p:nvSpPr>
        <p:spPr>
          <a:xfrm>
            <a:off x="5334120" y="2895480"/>
            <a:ext cx="19047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2520" y="11426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Help pops up!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5" name="Freeform 16"/>
          <p:cNvSpPr/>
          <p:nvPr/>
        </p:nvSpPr>
        <p:spPr>
          <a:xfrm>
            <a:off x="4114800" y="2133720"/>
            <a:ext cx="2997360" cy="761760"/>
          </a:xfrm>
          <a:custGeom>
            <a:avLst/>
            <a:gdLst>
              <a:gd name="textAreaLeft" fmla="*/ 0 w 2997360"/>
              <a:gd name="textAreaRight" fmla="*/ 2997720 w 29973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080" h="960">
                <a:moveTo>
                  <a:pt x="1824" y="960"/>
                </a:moveTo>
                <a:cubicBezTo>
                  <a:pt x="1952" y="576"/>
                  <a:pt x="2080" y="192"/>
                  <a:pt x="1776" y="96"/>
                </a:cubicBezTo>
                <a:cubicBezTo>
                  <a:pt x="1472" y="0"/>
                  <a:pt x="296" y="336"/>
                  <a:pt x="0" y="38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/>
  <dc:description/>
  <dc:language>en-US</dc:language>
  <cp:lastModifiedBy>jbaun</cp:lastModifiedBy>
  <dcterms:modified xsi:type="dcterms:W3CDTF">2009-08-27T00:53:06Z</dcterms:modified>
  <cp:revision>63</cp:revision>
  <dc:subject/>
  <dc:title>Creating a Bibliography or Source List</dc:title>
</cp:coreProperties>
</file>